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0533-2364-4708-96BF-AE886D07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5286-78A2-438B-AFEB-FD9E6763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3C1E-44A6-4C1D-BF49-DC47D97A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6E02-78A4-4BB9-967E-0C8FF43F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0C3C-B5EA-4907-AC45-04B93026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A845-8A94-4944-867F-A83894A7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9F8F-FA7F-432F-98C1-396DAB7D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768B-CAD1-4BC2-BDC0-B6C0EC10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5B06-5C64-4E76-BA0C-DE9D4009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AB45-B5EC-4517-8D1E-2CC8BEA0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B001-30D4-4E96-B2EB-38D72DE8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C98F-4631-4210-A57D-29E41EA6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6182-8AB6-41B9-BBFF-BE7D3A3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CD36-A696-4CAE-83D0-C76E8B9C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B71D-2CE2-4F57-BEF3-74ABA380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0CEF-AE04-476C-B041-B8C26678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5B29-5511-4D95-84A1-D4DD01CD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FFE0-BE4F-4E39-8FB3-D0A51084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F878-3F16-4E66-975C-97F32187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4FBC-288C-4F64-A92E-62424DF8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A3BFC-6CFA-4905-9FE0-A88C4CD7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E3F8-DD5D-46BF-9BA5-405DC0B7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7434-8D47-4DB6-9AFC-D803DEFA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6A45A-5E1B-4E5F-A678-0B5482CF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940B-A010-4231-B9BA-457ED1DF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7A33-17F7-4A11-9488-24AFEEEC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7427-58A0-4B9A-8944-DC22CB61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0DAF-6737-49AE-87F1-8B9B364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33B0-724D-486F-9026-94A980E2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14870-0F67-4BC3-BF2D-C5CB1A69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C2FF-1A8D-496A-B165-63D6FFE5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E810-DB21-4618-9C91-C5D319BF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A622-C40A-4FB2-A2BF-CED12CFD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774C-1CDC-4E04-862E-8D7DDE2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8B30-5BC2-4860-B32F-A9090FC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0D97-CCE4-406E-BF22-4251E21F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4311-55B9-4CC5-A8CC-D32E631B10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77A4-2D2C-4231-A300-8A3307DB85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62B-E86B-4BFC-94FD-D716FBE5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(5502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- ЗАПОЛНЯТЬ!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смертная патологоанатомическая ди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патологоанатомические вскрытия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БЛИЦА (5503)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яется исключительно по результатам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патологоанатомическ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крытий умерших в стационаре и амбулаторно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ОМАТИЧЕСКОЙ ПАТ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заболеваний)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9280" y="115920"/>
          <a:ext cx="8785440" cy="5802120"/>
        </p:xfrm>
        <a:graphic>
          <a:graphicData uri="http://schemas.openxmlformats.org/drawingml/2006/table">
            <a:tbl>
              <a:tblPr/>
              <a:tblGrid>
                <a:gridCol w="4214880"/>
                <a:gridCol w="517680"/>
                <a:gridCol w="520560"/>
                <a:gridCol w="492120"/>
                <a:gridCol w="492120"/>
                <a:gridCol w="490680"/>
                <a:gridCol w="493560"/>
                <a:gridCol w="490680"/>
                <a:gridCol w="107316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2"/>
          <p:cNvSpPr/>
          <p:nvPr/>
        </p:nvSpPr>
        <p:spPr>
          <a:xfrm>
            <a:off x="0" y="59968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(5505)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служиваемых медицинских организаций всего 2 _____________ , из них: медицинских организаций,  оказывающих медицинскую помощь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____ 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ъектов гистологического исследования по секционному материалу  4 __________ 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916280"/>
            <a:ext cx="28728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220500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256536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300640"/>
            <a:ext cx="287280" cy="2890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БЛАГОПРЕМЕННО сверить данные по вскрытиям с         ПАТОЛОГОАНАТОМАМИ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484280"/>
          <a:ext cx="8229600" cy="517536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510372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ерв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(макроскопическое исследование) без проведения гистологического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втор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лода, мертворожденного или новорожденного, а также патолого-анатомическое вскрытие при установленном клиническом диагнозе, включая осложнения основного заболевания, при отсутствии трудностей в трактовке механизмов и причины смерти (в том числе при ишемической болезни сердца, ревматических поражениях клапанов сердца вне обострения, инфаркте головного мозга, новообразованиях, подтвержденных гистологически, циррозе печени, язве желудка и двенадцатиперстной кишки, аппендиците, холецистите, желчнокаменной болезни, аневризме аор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третье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установленном клиническом диагнозе, включая осложнения основного заболевания, а также в случаях смерти после оперативных вмешательств (за исключением случаев, предусмотренных подпунктами 4 и 5 настоящего пункта), когда возникают трудности в трактовке сущности патологического процесса, механизмов и причины смерти, что требует применения дополнительных гистологических и гистохимических окрасок, бактериоскопического, бактериологического, биохимического и других исследований (в том числе при кардиомиопатиях, перикардитах, миокардитах, эндокардитах, цереброваскулярных заболеваниях, сосудистой недостаточности кишечника, кишечной непроходимости, вирусных гепатитах, пиелонефритах, мочекаменной болезни, обструктивных болезнях легкого, сосудистой недостаточности конечностей, психических и нервных болезнях, алкоголизме, панкреатитах, амилоидоз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четверто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комбинированном основном заболевании или полипатии, при наличии дефектов диагностики и лечения, что вызвало трудности в трактовке характера патологического процесса, механизмов и причины смерти (в том числе при интраоперационной или ранней послеоперационной смерти, инфекционных заболеваниях (кроме ВИЧ-инфекции, особо опасных инфекций), заболеваниях беременных, рожениц и родильниц, при гнойно-воспалительных осложнениях, не диагностированных при жизни, сепсисе, болезнях крови и кроветворных органов, ревматических болезнях, заболеваниях спинного мозга, болезнях кожи и костно-мышечной системы, профессиональных заболеваниях, в том числе пневмокониозах, интерстициальных болезнях легких, болезнях эндокринной системы, болезнях накопл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ятой категории сл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неустановленном клиническом диагнозе основного заболевания, когда имеются трудности в трактовке характера патологического процесса и причины смерти или необходимо применение дополнительных иммуногистохимических, молекулярно-биологических, электронно-микроскопических методов исследования (в том числе при новообразованиях неустановленного гистогенеза, особо опасных инфекционных болезнях, ВИЧ-инфе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-43-02; 8-914-490-90-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Краснокаменским ПаО – Плакущая Надежда Владими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145-23-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620640"/>
          <a:ext cx="8785440" cy="605160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836640"/>
          <a:ext cx="8713800" cy="584208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57120" y="1195560"/>
          <a:ext cx="8358120" cy="560052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29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Arial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212760" y="1285920"/>
            <a:ext cx="8718480" cy="3882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5-12-14T20:08:13Z</dcterms:modified>
  <cp:revision>50</cp:revision>
  <dc:subject/>
  <dc:title>Слайд 1</dc:title>
</cp:coreProperties>
</file>